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9007-4429-41F7-BE8B-780428EA8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ecarboxylated in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reduced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xidizing NADH to NA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acteria &amp; yea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owse.blogspot.ca/2012/02/role-of-sweetness-in-wine-bala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AE01-326A-4835-A839-2BDB9FF3E34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textbookofbacteriology.net/themicrobialworld/Effect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Ethanol fermentation:  bread dough rising using yeast; brewing beer &amp; wine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Lacate fermentation: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AFE5-9745-454C-BA5D-9E4BFC36B0E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ermentation_in_food_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Ethanol fermentation:  bread dough rising using yeast; brewing beer &amp; wine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Lacate fermentation: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73F7-C021-45B7-9824-86AACF50BF7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reduced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actic ac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xidizing NADH to NA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d as primary energy pathway in some bacteria but can also be supplemental in many eukaryotes, e.g., musc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k12.org/user:a3F1aWNrQHdlYmIub3Jn/section/Anaerobic-Respiration%253A-ATP%252C-New-Fuels%252C-and-Yogurt-without-Oxyg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9212-63EB-4297-B072-090C56F9E73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port-fitness-advisor.com/lactate-thresh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038-72F4-488B-B384-04619AED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BF9-E83D-48B7-B14D-2714C26E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EBC-FFEE-48C5-B30D-614CC930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BA5-9136-403F-A3CD-A99AC25C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C26-0C11-4E26-8846-30BF374F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C91-F06C-49C0-AAB7-1972E9F4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943-6A84-41B4-81E7-EDF1E93F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641-496C-4A20-B2EF-2F382CE9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D04-19F4-47C6-80A1-49B120C9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8C6-E72C-4CDB-A182-D2A7B29A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F70-F2C6-465A-9EF0-90368D1C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042-EFA3-427F-A753-99ACEC9B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1ECB-63F3-4989-A4D1-2F7817447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karyotes have electron transport chains on internal membran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l electron acceptor can b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erobic) or other molecules (anaerobic) such as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,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mentation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erob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duction of pyruvat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ct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18240" y="1981080"/>
            <a:ext cx="346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lcohol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0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87400" y="304920"/>
            <a:ext cx="5721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Products of Fer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actate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24160" y="1905120"/>
            <a:ext cx="449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ate Thres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tate threshold (L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exercise intensity at which blood lactate concentration begins to increase shar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improves oxygen delivery, which results in an increase in lactate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ate Thres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82560" y="1981080"/>
            <a:ext cx="597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oxygen required by muscle tissue to oxidize lactic acid back to 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21:11:38Z</dcterms:created>
  <dc:creator>rubina khan</dc:creator>
  <dc:description/>
  <dc:language>en-US</dc:language>
  <cp:lastModifiedBy>rubina khan</cp:lastModifiedBy>
  <dcterms:modified xsi:type="dcterms:W3CDTF">2013-10-22T18:49:57Z</dcterms:modified>
  <cp:revision>96</cp:revision>
  <dc:subject/>
  <dc:title>Anaerobic Pathways</dc:title>
</cp:coreProperties>
</file>